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97B4-B78F-4450-8A22-98F05FDDD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Source is an online staff development tool offering training for various computer applications such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crosoft Office Suite, Technology Integration into the Curriculum, and Use of the Internet to name a f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employee has access to these training tutorials.  Every school should have a local school administrator to add and delete courses for their facult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logging in you will view your home page.  This is were you access your cour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es can be added school to a school’s entire staff as a group or to an individ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course is broken into mini tutorial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utorial can contain as little as 7 slides and up to 40.  Therefore, a session can take as little as 5 mins. to compl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ers have access to this resource wherever there is Internet ac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lso online help and a users gu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r faculty has not had training on this wonderful product, then contact your school’s Technology Resource Teacher to plan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A062-B6FB-4B1E-B9A6-F4BA19C43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F97D-475A-453B-929A-14100AB1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C04A-7DC4-47C1-AAAC-14D61587F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3110-E37B-40BA-BA3F-2FB4C4079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5B2C-B552-4B77-B625-0377FD60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2673-574F-4562-9D35-0C54D9E4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D3D9-B6B3-4639-9815-91CC0757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A217-D9EC-490C-8C7A-0551178E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EF30-3B94-4B8A-8DD7-AB02A476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0565-6615-4981-A3B6-58B72EF2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7CB9-B280-4BDA-9857-A934ABCD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FAC1-6C78-4BFA-A7E2-444C4291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A199-27CB-4B62-963A-3149798DC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mcpss.howtomaster.com/" TargetMode="External"/><Relationship Id="rId2" Type="http://schemas.openxmlformats.org/officeDocument/2006/relationships/audio" Target="file:///tmp/home/.config/libreoffice/4/user/gallery/~PP3282.WAV" TargetMode="External"/><Relationship Id="rId3" Type="http://schemas.microsoft.com/office/2007/relationships/media" Target="file:///tmp/home/.config/libreoffice/4/user/gallery/~PP3282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file:///tmp/home/.config/libreoffice/4/user/gallery/~PP2840.WAV" TargetMode="External"/><Relationship Id="rId3" Type="http://schemas.microsoft.com/office/2007/relationships/media" Target="file:///tmp/home/.config/libreoffice/4/user/gallery/~PP2840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file:///tmp/home/.config/libreoffice/4/user/gallery/~PP2349.WAV" TargetMode="External"/><Relationship Id="rId3" Type="http://schemas.microsoft.com/office/2007/relationships/media" Target="file:///tmp/home/.config/libreoffice/4/user/gallery/~PP2349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file:///tmp/home/.config/libreoffice/4/user/gallery/~PP1733.WAV" TargetMode="External"/><Relationship Id="rId3" Type="http://schemas.microsoft.com/office/2007/relationships/media" Target="file:///tmp/home/.config/libreoffice/4/user/gallery/~PP1733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file:///tmp/home/.config/libreoffice/4/user/gallery/~PP1389.WAV" TargetMode="External"/><Relationship Id="rId3" Type="http://schemas.microsoft.com/office/2007/relationships/media" Target="file:///tmp/home/.config/libreoffice/4/user/gallery/~PP1389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file:///tmp/home/.config/libreoffice/4/user/gallery/~PP1318.WAV" TargetMode="External"/><Relationship Id="rId3" Type="http://schemas.microsoft.com/office/2007/relationships/media" Target="file:///tmp/home/.config/libreoffice/4/user/gallery/~PP1318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76520" y="1295280"/>
            <a:ext cx="5943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cc"/>
                </a:solidFill>
                <a:latin typeface="Lucida Sans"/>
              </a:rPr>
              <a:t>InfoSourc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cc"/>
                </a:solidFill>
                <a:latin typeface="Lucida Sans"/>
              </a:rPr>
              <a:t>How to Mast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4495680"/>
            <a:ext cx="8153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cpss.howtomaster.com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0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2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6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8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077320" y="533520"/>
            <a:ext cx="1066680" cy="838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1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763120" cy="6572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4:04:14Z</dcterms:created>
  <dc:creator>Aheitman</dc:creator>
  <dc:description/>
  <dc:language>en-US</dc:language>
  <cp:lastModifiedBy>Aheitman</cp:lastModifiedBy>
  <dcterms:modified xsi:type="dcterms:W3CDTF">2007-09-12T14:05:02Z</dcterms:modified>
  <cp:revision>1</cp:revision>
  <dc:subject/>
  <dc:title>Slide 1</dc:title>
</cp:coreProperties>
</file>